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61D6-35E8-4147-9441-137D621C8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4DE8-7721-405B-BBBD-796DAF030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18B-AA0A-4CE7-9A7F-11273AB4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114-9841-4874-8747-C1C38A43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954-7957-4D2D-8EEF-63D259FC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547-2BA6-4C97-AEF6-9D3F57D5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D35-D117-43C1-90B5-ABA7C125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852-F99B-40FA-9737-5CD74787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AFE-92F5-4A68-9C33-BC53190C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33E-F517-4AA7-9DD9-A045037C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F85-29E9-4156-85C7-F1EEB38D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A3D-ADE7-41A2-A49F-204EA073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D05-DCAF-43B5-9BDB-B801CA1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5EF-3CCE-4699-8C31-926F09FA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D73F-F444-45E4-992F-3AE3C85DDB20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25.xml"/><Relationship Id="rId12" Type="http://schemas.openxmlformats.org/officeDocument/2006/relationships/slide" Target="slide35.xml"/><Relationship Id="rId13" Type="http://schemas.openxmlformats.org/officeDocument/2006/relationships/slide" Target="slide45.xml"/><Relationship Id="rId14" Type="http://schemas.openxmlformats.org/officeDocument/2006/relationships/slide" Target="slide17.xml"/><Relationship Id="rId15" Type="http://schemas.openxmlformats.org/officeDocument/2006/relationships/slide" Target="slide27.xml"/><Relationship Id="rId16" Type="http://schemas.openxmlformats.org/officeDocument/2006/relationships/slide" Target="slide37.xml"/><Relationship Id="rId17" Type="http://schemas.openxmlformats.org/officeDocument/2006/relationships/slide" Target="slide47.xml"/><Relationship Id="rId18" Type="http://schemas.openxmlformats.org/officeDocument/2006/relationships/slide" Target="slide19.xml"/><Relationship Id="rId19" Type="http://schemas.openxmlformats.org/officeDocument/2006/relationships/slide" Target="slide21.xml"/><Relationship Id="rId20" Type="http://schemas.openxmlformats.org/officeDocument/2006/relationships/slide" Target="slide23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31.xml"/><Relationship Id="rId25" Type="http://schemas.openxmlformats.org/officeDocument/2006/relationships/slide" Target="slide41.xml"/><Relationship Id="rId26" Type="http://schemas.openxmlformats.org/officeDocument/2006/relationships/slide" Target="slide51.xml"/><Relationship Id="rId27" Type="http://schemas.openxmlformats.org/officeDocument/2006/relationships/slide" Target="slide33.xml"/><Relationship Id="rId28" Type="http://schemas.openxmlformats.org/officeDocument/2006/relationships/slide" Target="slide43.xml"/><Relationship Id="rId29" Type="http://schemas.openxmlformats.org/officeDocument/2006/relationships/slide" Target="slide53.xml"/><Relationship Id="rId30" Type="http://schemas.openxmlformats.org/officeDocument/2006/relationships/slide" Target=""/><Relationship Id="rId31" Type="http://schemas.openxmlformats.org/officeDocument/2006/relationships/image" Target="../media/image2.png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</a:rPr>
              <a:t>Instructions for using this game.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member this is Jeopardy, so the prompt the students will see is the “Answer”, and the student’s response should be the“Question”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en clicking on the slide to move to the next appropriate slide, be sure you see the hand, not the arrow.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(If you put your cursor over a text box, it will be an arrow and WILL NOT take you to the right location.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47640" y="26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parallel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lowers of these plants have parts in groups of this numb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re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male reproductive structure of the flow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4685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tame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09480" y="990720"/>
            <a:ext cx="79250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9933"/>
                </a:solidFill>
                <a:latin typeface="Times New Roman"/>
              </a:rPr>
              <a:t>Number of cotyledons in these plants.</a:t>
            </a:r>
            <a:endParaRPr b="1" lang="en-US" sz="10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wo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23960" y="944640"/>
            <a:ext cx="7696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Leaves of these plants have their veins arranged in this manner</a:t>
            </a:r>
            <a:endParaRPr b="1" lang="en-US" sz="8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33"/>
                </a:solidFill>
                <a:latin typeface="Times New Roman"/>
              </a:rPr>
              <a:t>What is branching veins?</a:t>
            </a:r>
            <a:endParaRPr b="1" lang="en-US" sz="9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990720"/>
            <a:ext cx="792504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lowers of these plants have parts in groups of these numbe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wo, four, or fiv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rrangement of the vascular bundles in the stems of these pl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ring of vascular bund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5335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ells transport sugars and other nutrients throughout the plan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47640" y="19051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33"/>
                </a:solidFill>
                <a:latin typeface="Times New Roman"/>
              </a:rPr>
              <a:t>What are phloem?</a:t>
            </a:r>
            <a:endParaRPr b="1" lang="en-US" sz="9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3716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33"/>
                </a:solidFill>
                <a:latin typeface="Times New Roman"/>
              </a:rPr>
              <a:t>This structure encloses the seeds </a:t>
            </a:r>
            <a:endParaRPr b="1" lang="en-US" sz="9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ui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9933"/>
                </a:solidFill>
                <a:latin typeface="Times New Roman"/>
              </a:rPr>
              <a:t>Stored food in the seed.</a:t>
            </a:r>
            <a:endParaRPr b="1" lang="en-US" sz="10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ndosperm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380880"/>
            <a:ext cx="7925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33"/>
                </a:solidFill>
                <a:latin typeface="Times New Roman"/>
              </a:rPr>
              <a:t>The reproductive structure of these plants.</a:t>
            </a:r>
            <a:endParaRPr b="1" lang="en-US" sz="8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flow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9933"/>
                </a:solidFill>
                <a:latin typeface="Times New Roman"/>
              </a:rPr>
              <a:t>Monocots and Dicots</a:t>
            </a:r>
            <a:endParaRPr b="1" lang="en-US" sz="10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two major subgroups of angiosperm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immature male gametophyte of these plants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ollen grai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" y="16462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eproductive structures of this class of pl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nifers, Cycads,  Ginko, and Gnetophyte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16462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the four types of gymnosperm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83808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eeds of this group of plants are not encased in this food supplying structur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Dicot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Gymnosperm</a:t>
            </a:r>
            <a:endParaRPr b="1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Vascular vs Nonvascular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60">
            <a:hlinkClick r:id="rId30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ngiosperm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6" name="Picture 61" descr=""/>
          <p:cNvPicPr/>
          <p:nvPr/>
        </p:nvPicPr>
        <p:blipFill>
          <a:blip r:embed="rId31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3">
            <a:hlinkClick r:id="rId32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Monocot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rui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1430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plants rely on this weather phenomenon to spread polle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wind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050840"/>
            <a:ext cx="7925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cones of this common tree, grown for its wood in the South, may take up to two years to mature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ine tre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19810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amiliar example of a nonvascular plan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moss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10666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air-like projections that resemble roots in nonvascular pl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hizoid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16765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Underground stem in these simple vascular pl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00280" y="700200"/>
            <a:ext cx="754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33"/>
                </a:solidFill>
                <a:latin typeface="Times New Roman"/>
              </a:rPr>
              <a:t>Leaf-like structures that are part of the plant embryo.</a:t>
            </a:r>
            <a:endParaRPr b="1" lang="en-US" sz="8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hizom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2351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eedless plants require this liquid medium for sexual reprodu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697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wat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9907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Structure in vascular plants that transport water and nutrients from the roots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xylem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066680" y="68580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191120" y="53942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41240" y="3863880"/>
            <a:ext cx="786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ategory:  Examples of Monocot Angiosperm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47640" y="6397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lant is an important grain and is native to North America.  It is a common example of  a monocot angiosperm</a:t>
            </a:r>
            <a:r>
              <a:rPr b="1" lang="en-US" sz="6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47640" y="2438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33"/>
                </a:solidFill>
                <a:latin typeface="Times New Roman"/>
              </a:rPr>
              <a:t>What is corn?</a:t>
            </a:r>
            <a:endParaRPr b="1" lang="en-US" sz="8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tyled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129528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number of cotyledons of this class of angiosper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on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914400"/>
            <a:ext cx="7467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Leaves of these plants have their veins arranged in this manner.</a:t>
            </a:r>
            <a:endParaRPr b="1" lang="en-US" sz="8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robinson</cp:lastModifiedBy>
  <dcterms:modified xsi:type="dcterms:W3CDTF">2008-02-25T16:53:35Z</dcterms:modified>
  <cp:revision>45</cp:revision>
  <dc:subject/>
  <dc:title>No Slide Title</dc:title>
</cp:coreProperties>
</file>